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57B-472C-487F-BA0A-954B9D3C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85E-F44B-46AB-954F-1AF1860F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A3E-C2C3-4334-A66D-2E017ADA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FD9-AE26-4527-9ADD-1BB2E4FD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A6F-8C3E-4DC7-9ABE-A8FBA115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C47-1D15-4493-93F3-F8B59F97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F25-83A1-4EED-8C66-F823F598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772-4F42-406C-B3C1-76283E7A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0EC-1E35-4986-B9FE-39773947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DC2-CBDD-4514-AD24-DDE78028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A9B-2876-4301-9521-7BE28AAD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477-D87E-42FA-9F8B-6808D36E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462E-E267-4744-8813-DDDEC8C3C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ntasy Book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uide to the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y Michael Muball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his is a intro to the book of fant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9006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onsters and Gouls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t 1 Gobl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Goblins are the thieves of the fantasy world mainly they’ll do anything to save there life or get r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2259000" cy="3448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a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ragons are the most dangerous monsters in the fantasy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740400" cy="384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illains of fant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I’ve got you now!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 villain would say having the tra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Villains,rivals,masterminds they are all the bad guy, the picture on the right is a character I’m thinking of ,sorcerer of the fl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495600" cy="452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illai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Villains like these guys, they look awsom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1903320" cy="281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038480" y="1295280"/>
            <a:ext cx="4191120" cy="235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343400" y="3944880"/>
            <a:ext cx="4229280" cy="2633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ory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Story is every thing in fantasy ,come on what fantasy book has no story it could be as simple as catching a ghost or as complicated as getting a magic sword and defeating an evil sorcere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1981080" cy="1522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50292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agic 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10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25Z</dcterms:modified>
  <cp:revision>10</cp:revision>
  <dc:subject/>
  <dc:title>Fantasy Books </dc:title>
</cp:coreProperties>
</file>